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021-2217-4A3B-B19E-CF321701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B9B-54E7-4D03-A865-5EBF2C96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607-2CD7-4086-90DA-043D1BEB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629-37C2-4B97-B088-D7418DED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BA1-A07F-492C-9D48-8E687216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282F-13D1-4D44-B4E2-045DB671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056D-23D3-47A5-8E2E-9648C74B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D5F1-7619-4A55-A308-50FD1235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5D77-823B-4CEC-9049-B1087F4A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064-954A-4545-BB69-878B610D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EAE-DB53-4BBA-8A20-C8EBC85E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4C3-8DEF-4072-8EE2-3732C946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1AE5-3535-4340-8EDF-2EF2205A2B33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kr/imgres?imgurl=http://barosl.com/blog/attach/1/2878768836.jpg&amp;imgrefurl=http://barosl.com/blog/entry/youtube-fmt-22&amp;usg=__gLlkNCpQmBbmaghHfvhqz74kWo0=&amp;h=200&amp;w=394&amp;sz=17&amp;hl=ko&amp;start=1&amp;tbnid=8CvW4uRHlutVZM:&amp;tbnh=63&amp;tbnw=124&amp;prev=/images%3Fq%3D%25EC%259C%25A0%25ED%258A%259C%25EB%25B8%258C%2B%25EB%25A1%259C%25EA%25B3%25A0%26gbv%3D2%26hl%3Dko%26newwindow%3D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s://www.paypal.com/kr/cgi-bin/webscr?cmd=_home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hyperlink" Target="http://www.ebay.com/" TargetMode="External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hyperlink" Target="http://www.linkedin.com/home?trk=hb_logo" TargetMode="External"/><Relationship Id="rId11" Type="http://schemas.openxmlformats.org/officeDocument/2006/relationships/image" Target="../media/image7.pn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857240"/>
            <a:ext cx="7772400" cy="164304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중소 인터넷 기업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, </a:t>
            </a:r>
            <a:br>
              <a:rPr sz="3600"/>
            </a:b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이대로 멈출 것인가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?”</a:t>
            </a:r>
            <a:br>
              <a:rPr sz="3600"/>
            </a:br>
            <a:r>
              <a:rPr b="1" lang="en-US" sz="27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1" lang="ko-KR" sz="2700" spc="-1" strike="noStrike">
                <a:solidFill>
                  <a:srgbClr val="000000"/>
                </a:solidFill>
                <a:latin typeface="맑은 고딕"/>
              </a:rPr>
              <a:t>토론문</a:t>
            </a:r>
            <a:r>
              <a:rPr b="1" lang="en-US" sz="27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3785760"/>
            <a:ext cx="64008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2009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9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28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일</a:t>
            </a:r>
            <a:br>
              <a:rPr sz="1900"/>
            </a:br>
            <a:br>
              <a:rPr sz="1900"/>
            </a:b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조선일보 미디어연구소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박창신 연구실장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oogle"/>
          <p:cNvPicPr/>
          <p:nvPr/>
        </p:nvPicPr>
        <p:blipFill>
          <a:blip r:embed="rId1"/>
          <a:stretch/>
        </p:blipFill>
        <p:spPr>
          <a:xfrm>
            <a:off x="4286160" y="2000160"/>
            <a:ext cx="1285920" cy="428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t2.gstatic.com/images?q=tbn:8CvW4uRHlutVZM:http://barosl.com/blog/attach/1/287876883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7680" y="1928880"/>
            <a:ext cx="1180800" cy="6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PayPa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4240" y="2000160"/>
            <a:ext cx="1905120" cy="476280"/>
          </a:xfrm>
          <a:prstGeom prst="rect">
            <a:avLst/>
          </a:prstGeom>
          <a:ln w="0">
            <a:noFill/>
          </a:ln>
        </p:spPr>
      </p:pic>
      <p:pic>
        <p:nvPicPr>
          <p:cNvPr id="46" name="그림 6" descr="youniversity 투자처 jpb.JPG"/>
          <p:cNvPicPr/>
          <p:nvPr/>
        </p:nvPicPr>
        <p:blipFill>
          <a:blip r:embed="rId6"/>
          <a:stretch/>
        </p:blipFill>
        <p:spPr>
          <a:xfrm>
            <a:off x="5715000" y="1643040"/>
            <a:ext cx="2610000" cy="2633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From collectibles to cars, buy and sell all kinds of items on eBa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85880" y="2643120"/>
            <a:ext cx="1047600" cy="33192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10"/>
          <p:cNvSpPr/>
          <p:nvPr/>
        </p:nvSpPr>
        <p:spPr>
          <a:xfrm>
            <a:off x="76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76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AutoShape 14"/>
          <p:cNvSpPr/>
          <p:nvPr/>
        </p:nvSpPr>
        <p:spPr>
          <a:xfrm>
            <a:off x="76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" name="그림 11" descr="slide_logo_header_black.gif"/>
          <p:cNvPicPr/>
          <p:nvPr/>
        </p:nvPicPr>
        <p:blipFill>
          <a:blip r:embed="rId9"/>
          <a:stretch/>
        </p:blipFill>
        <p:spPr>
          <a:xfrm>
            <a:off x="2857680" y="1214280"/>
            <a:ext cx="1201680" cy="7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LinkedI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928960" y="2714760"/>
            <a:ext cx="1214280" cy="44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http://topics.nytimes.com/topics/news/business/companies/yelp/index.html"/>
          <p:cNvPicPr/>
          <p:nvPr/>
        </p:nvPicPr>
        <p:blipFill>
          <a:blip r:embed="rId12"/>
          <a:stretch/>
        </p:blipFill>
        <p:spPr>
          <a:xfrm>
            <a:off x="2928960" y="3357720"/>
            <a:ext cx="952560" cy="628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5725080" y="100008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Youniversity Venture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직사각형 15"/>
          <p:cNvSpPr/>
          <p:nvPr/>
        </p:nvSpPr>
        <p:spPr>
          <a:xfrm>
            <a:off x="571680" y="4305240"/>
            <a:ext cx="8215200" cy="191916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채드 헐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Ched Hurley, 197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유튜브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EO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디아나대 미술 전공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Pa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고 디자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2.  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스티브 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Steve Chen, 197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유튜브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TO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엔지니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만 태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 때 미국 이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리노이 공대 졸업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3.  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조 카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Jawed Karim, 1979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벤처캐피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Youniversity Ventures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세콰이어 캐피털 기술 파트너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 동독 태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때 서독 이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1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 때 미국 이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리노이대 컴퓨터 공학과 졸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Pa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출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유튜브 사이트 구축 직후 스탠포드 대학원 박사과정 진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글의 유튜브 인수 당시 카림이 받은 유튜브 주식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37,44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주의 가치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64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 달러로 평가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직사각형 16"/>
          <p:cNvSpPr/>
          <p:nvPr/>
        </p:nvSpPr>
        <p:spPr>
          <a:xfrm>
            <a:off x="500040" y="1857240"/>
            <a:ext cx="1571760" cy="714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직사각형 18"/>
          <p:cNvSpPr/>
          <p:nvPr/>
        </p:nvSpPr>
        <p:spPr>
          <a:xfrm>
            <a:off x="2643120" y="1857240"/>
            <a:ext cx="1571760" cy="714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직사각형 19"/>
          <p:cNvSpPr/>
          <p:nvPr/>
        </p:nvSpPr>
        <p:spPr>
          <a:xfrm>
            <a:off x="5715000" y="1000080"/>
            <a:ext cx="2571840" cy="357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59" name="직선 화살표 연결선 21"/>
          <p:cNvCxnSpPr>
            <a:stCxn id="56" idx="3"/>
          </p:cNvCxnSpPr>
          <p:nvPr/>
        </p:nvCxnSpPr>
        <p:spPr>
          <a:xfrm>
            <a:off x="2071440" y="2214720"/>
            <a:ext cx="548280" cy="24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직선 화살표 연결선 23"/>
          <p:cNvCxnSpPr>
            <a:stCxn id="57" idx="3"/>
            <a:endCxn id="58" idx="1"/>
          </p:cNvCxnSpPr>
          <p:nvPr/>
        </p:nvCxnSpPr>
        <p:spPr>
          <a:xfrm flipV="1">
            <a:off x="4214520" y="1177560"/>
            <a:ext cx="1500840" cy="1037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직선 화살표 연결선 25"/>
          <p:cNvCxnSpPr>
            <a:stCxn id="58" idx="2"/>
          </p:cNvCxnSpPr>
          <p:nvPr/>
        </p:nvCxnSpPr>
        <p:spPr>
          <a:xfrm flipH="1">
            <a:off x="6143040" y="1357200"/>
            <a:ext cx="8578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직선 화살표 연결선 27"/>
          <p:cNvCxnSpPr>
            <a:stCxn id="58" idx="2"/>
          </p:cNvCxnSpPr>
          <p:nvPr/>
        </p:nvCxnSpPr>
        <p:spPr>
          <a:xfrm>
            <a:off x="6999840" y="1357200"/>
            <a:ext cx="1980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직선 화살표 연결선 29"/>
          <p:cNvCxnSpPr>
            <a:stCxn id="58" idx="2"/>
          </p:cNvCxnSpPr>
          <p:nvPr/>
        </p:nvCxnSpPr>
        <p:spPr>
          <a:xfrm>
            <a:off x="7000920" y="1357200"/>
            <a:ext cx="929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xtBox 30"/>
          <p:cNvSpPr/>
          <p:nvPr/>
        </p:nvSpPr>
        <p:spPr>
          <a:xfrm>
            <a:off x="1060200" y="642960"/>
            <a:ext cx="40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꼬리에 꼬리를 무는 성공의 배경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Youtube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사례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cafe.chosun.com/img_file/club_file/44/digitalmedia/bbs/25/paypal_mafia%5b20070104225953%5d.jpg"/>
          <p:cNvPicPr/>
          <p:nvPr/>
        </p:nvPicPr>
        <p:blipFill>
          <a:blip r:embed="rId1"/>
          <a:stretch/>
        </p:blipFill>
        <p:spPr>
          <a:xfrm>
            <a:off x="1571760" y="357120"/>
            <a:ext cx="6000480" cy="3357720"/>
          </a:xfrm>
          <a:prstGeom prst="rect">
            <a:avLst/>
          </a:prstGeom>
          <a:ln w="0">
            <a:noFill/>
          </a:ln>
        </p:spPr>
      </p:pic>
      <p:sp>
        <p:nvSpPr>
          <p:cNvPr id="66" name="직사각형 2"/>
          <p:cNvSpPr/>
          <p:nvPr/>
        </p:nvSpPr>
        <p:spPr>
          <a:xfrm>
            <a:off x="785880" y="3857760"/>
            <a:ext cx="7500960" cy="264924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9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Peter Thiel  ‘Confinity(Paypal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전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1999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하반기 유튜브 설립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방 같은 사무실에서 일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당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y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직원 수는 약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eba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y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억 달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eter Thiel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패이팔을 이베이에 넘긴 후  ‘클래리엄 캐피탈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Clarium Capital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란 투자펀드 설립해 운영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ax Levchin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진 전문 인터넷사이트인 ‘슬라이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Slide)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 운영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id Hoffman : SN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 ‘링크드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LinkedIn)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 운영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유튜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이트 오픈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elof Botha : Sequoia Capit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투자 유치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글이 유튜브 인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억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0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 달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조 카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벤처투자사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Youniversity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cfile24.uf.tistory.com/original/12457B274A7FFE797424DC"/>
          <p:cNvPicPr/>
          <p:nvPr/>
        </p:nvPicPr>
        <p:blipFill>
          <a:blip r:embed="rId1"/>
          <a:stretch/>
        </p:blipFill>
        <p:spPr>
          <a:xfrm>
            <a:off x="785880" y="1143000"/>
            <a:ext cx="6643800" cy="307188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491480" y="7142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2. 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개방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과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공유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의 인터넷 사업 환경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페이스북과 오픈 소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9" name="Picture 4" descr="http://cfile22.uf.tistory.com/image/201C091E4A817BF76D20FA"/>
          <p:cNvPicPr/>
          <p:nvPr/>
        </p:nvPicPr>
        <p:blipFill>
          <a:blip r:embed="rId2"/>
          <a:stretch/>
        </p:blipFill>
        <p:spPr>
          <a:xfrm>
            <a:off x="3286080" y="4500720"/>
            <a:ext cx="3809880" cy="19764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664280" y="5286240"/>
            <a:ext cx="8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한국에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571680" y="928800"/>
            <a:ext cx="7754760" cy="438588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3. 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집중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의 해악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자본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인력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의 집중</a:t>
            </a:r>
            <a:br>
              <a:rPr sz="1600"/>
            </a:b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국내 중소 인터넷 기업들의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가장 큰 고민은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돈이 없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사람도 없다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는 것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국내 인터넷 벤처투자는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200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IT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버블 붕괴 이후 회복되지 않았으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인터넷 기업의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필수조건인 개발자들은 대부분 몇몇 포털기업에서 일하고 있다고 해도 과언이 아닐 정도로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인력의 불균형적인 집중 현상이 뚜렷함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자본과 인력을 갖추지 못한 중소 인터넷 기업의 직원들은 저임금의 밤샘 야근식 비효율적근무 시스템 속에서 일하다 지쳐 어느 정도 업무능력을 쌓으면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포털과 외국 등으로 이직하는 경우가 많아 작은 인터넷 기업의 인력난은 계속되고 있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플랫폼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+ 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애플리케이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+ 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콘텐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의 집중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국내 주요 인터넷사이트들은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높은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담벼락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Walled Garden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을 치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그 안에 모든 것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플랫폼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애플리케이션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콘텐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을 담아 제공하는 폐쇄적인 서비스 정책을 취하고 있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이에 따라 플랫폼이 없는 중소 인터넷 기업이 아이디어를 내어 애플리케이션을 개발해도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이를 사용해 비즈니스를 할 기회를 얻기가 쉽지 않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또한 기술적 기반이 취약한 콘텐츠 기업들은 스스로 서비스 플랫폼 또는 애플리케이션을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갖출 수 없어 결국에는 플랫폼 사업자에게 헐 값에 콘텐츠를 제공할 수 밖에 없는 상황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직사각형 1"/>
          <p:cNvSpPr/>
          <p:nvPr/>
        </p:nvSpPr>
        <p:spPr>
          <a:xfrm>
            <a:off x="714240" y="1000080"/>
            <a:ext cx="7715520" cy="487692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4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중소 인터넷 기업의 활성화를 위한 제언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터넷 기업 투자 지원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창업투자를 통해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유튜브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같은 창업의 성공 스토리를 만들어야 함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력 지원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력양성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취업 및 고용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재교육 등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프로그래머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디자이너 등의 신규 고용 지원을 통해 인력난 해소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터넷 플랫폼의 개방화 촉구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개방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과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공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의 글로벌 트렌드에 맞는 개방형 웹 표준의 제정과 권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포털에 대한 플랫폼 개방 촉구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콘텐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애플리케이션의 결합 모델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지원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콘텐츠 사업자와 중소 인터넷 애플리케이션 기업이 함께 도모할 수 있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는 개발 프로젝트의 정책적 지원 등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중소 인터넷 기업을 위한 온라인 광고 지원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대형 사이트의 검색 키워드 광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디스플레이 광고 이외에 중소 인터넷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기업이 수행할 수 있는 온라인 광고모델의 개발 지원과 정부 광고비 집행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0:55:18Z</dcterms:created>
  <dc:creator>박혜리</dc:creator>
  <dc:description/>
  <dc:language>en-US</dc:language>
  <cp:lastModifiedBy>박혜리</cp:lastModifiedBy>
  <dcterms:modified xsi:type="dcterms:W3CDTF">2009-09-25T01:11:16Z</dcterms:modified>
  <cp:revision>18</cp:revision>
  <dc:subject/>
  <dc:title>슬라이드 1</dc:title>
</cp:coreProperties>
</file>